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21C0-F1A6-40F4-B16B-1647DDC18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6F57-902B-493F-BBEC-B18E0E6A7F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ute spreche ich über Erdbeben in Deutsch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DFB5-F69B-464E-B0D4-253B31E84E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ource talked about a project that could read earthquake activities in Ger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erste Quelle hat ein Projekt besprochen, das Erdbebentätigkeiten in Deutschland lesen könnte. Die erste Quelle hat ein Projekt besprochen, das Erdbebentätigkeiten in Deutschland lesen kön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FA0F-53BE-4AEC-B8BC-988E276892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s Auto ist beschädigt. The car is dama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 gibt eine Frau neben dem Auto. There is a woman next to the c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 gibt Bauschutt an, und unter, dem Auto. There are building debris on and under the c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 Jahr 1992, gab es ein starkes Erdbeben in Deutschland. In 1992, there was a strong earthquake in Ger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s Erdbeben betraff 1525 Menschen und Gebäude. The earthquake affected 1525 people and buil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Stärke des Erdbebens war bei 5,2. The magnitude of the earthquake was 5.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Leute unterbewerteten die Stärke von Erdbeben in Deutschland. People underestimate the strength of the earthqu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Leute sagen, dass das Niveau der Erdbebengefährdung in Deutschland gering ist. People say that the level of the earthquake threat in Germany is 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utschland ist vielleicht weniger bereit für Erdbeben als die U.S. Germany might be less prepared for earthquakes than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um sind die viele Deutschen fahrlässig von Erdbeben? Why are many Germans negligent of the earthqu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le Deutschen sind fahrlässig, weil das Erdbeben nicht oft vorkomm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he Region hat die meisten Erdbeben in Deutschland? Which region has the most earthquakes in Germa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üd Deutschland hat die meisten Erdbe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selten ist das Erdbeben in Deutschland? How rare is the earthquake in Germa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s Erdbeben ist sehr selten. Es gibt nur 0,06 Erdbeben pro Jah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8AC1-1A33-4E4F-8B69-3E237BD467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s are rare in Ger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dbeben sind selten in Deutsch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0429-570B-4505-9226-C29DB2E2DE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ore earthquakes in the southern area of Germany than the northern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 gibt mehr Erdbeben im südlichen Gegend von Deutschland als das nördliche Geg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B8AB-C230-4100-9717-15CE14FEC4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92, there was a strong earthquake in Germany that affected 1525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 1992 gab es ein starkes Erdbeben in Deutschland, das 1525 Leute beeinflusst h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FF84-8560-4AB8-A045-C3A7DC2F25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ore storms than earthquakes in Ger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 gibt mehr Stürme als Erdbeben in Deutsch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AF7B-28B1-4652-8F12-B81A943CB1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eptember 8, 2011, there was a 4.4 earthquake that scared many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 8 September 2011 gab es ein 4,4 Erdbeben, das viele Leute erschrocken h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F567-8C3B-4188-83C3-37F040E6B8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arthquake was unusually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ses Erdbeben war ungewöhnlich sta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9879-CA4D-46AE-B37A-DB7EC26E6F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two earthquakes that occurred this year in Ger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 gibt nur zwei Erdbeben in Deutschland in diesem Jah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2D3A-697D-4F51-BD3A-3A0BA19BC6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s with the magnitude of 4.4 are considered strong in Ger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dbeben mit der Größe von 4,4 sind stark in Deutschland beda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21D98-9D1D-496A-9B9E-33FCF56F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6ED36-D05B-4793-8F28-5DBEEF40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18FF1-C82C-4CA7-8119-A08D5E39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1A6C1-3053-4739-BDE8-2DE159B7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D2C50-18DE-4C66-9F2B-FF874A16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F2F87-4E4D-4CD0-A36E-5D96D7F1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1CB45-9A7A-4FB3-863A-E1FDE00A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3EC15-82F8-46D9-A006-52BDAC1F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8E89B-63E6-4C15-B69C-3EAC7536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2F270-0E31-4BE0-88AB-CC96F6CD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BA809-A90D-497C-ADD0-D818A941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D0843-8735-4AD2-9D73-EDDC2355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5BAD-4A41-4882-BAC8-E12B51471B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edim.de/english/1017.ph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Environmental Issues in German Speaking Countrie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ural Disaster 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qu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Rebecca K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rticl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cedim.de/english/1017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ttp://www.preventionweb.net/english/countries/statistics/index.php?cid=66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ttp://www.sott.net/articles/show/234743-Germany-Earthquake-Shakes-the-Rhinelan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llustr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ttp://www.preventionweb.net/english/countries/statistics/index.php?cid=66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ttp://www.cedim.de/english/1017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ttp://www.thelocal.de/society/20110909-37487.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erdbeben in deutschla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3e3ff"/>
                </a:solidFill>
                <a:latin typeface="Arial"/>
              </a:rPr>
              <a:t>Source 1: Center for Disaster Management and Risk Reduction Technology</a:t>
            </a:r>
            <a:endParaRPr b="0" lang="en-US" sz="33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level of seismic hazard in Germany is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ow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were earthquakes with magnitudes above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rban areas are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es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vulnerable than rura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ismic intensity V or less causes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o damage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building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 risk exists in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ninhabite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rea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38480" y="22824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igure 1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23920" y="1600200"/>
            <a:ext cx="3962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quake Hazard of the D-A-CH Countries (Germany, Austria, Switzerlan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228600" y="0"/>
            <a:ext cx="4422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3e3ff"/>
                </a:solidFill>
                <a:latin typeface="Arial"/>
              </a:rPr>
              <a:t>Source 2: Germany – Disaster Statistics</a:t>
            </a:r>
            <a:endParaRPr b="0" lang="en-US" sz="3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verage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0.0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arthquakes per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2, there wer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ople affe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quake cause economic damage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$31,00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0.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ople are killed per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quake occurr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w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is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3e3ff"/>
                </a:solidFill>
                <a:latin typeface="Arial"/>
              </a:rPr>
              <a:t>Figure 2: Natural Disaster </a:t>
            </a:r>
            <a:br>
              <a:rPr sz="3500"/>
            </a:br>
            <a:r>
              <a:rPr b="0" lang="en-US" sz="3500" spc="-1" strike="noStrike">
                <a:solidFill>
                  <a:srgbClr val="e3e3ff"/>
                </a:solidFill>
                <a:latin typeface="Arial"/>
              </a:rPr>
              <a:t>Occurrence this year</a:t>
            </a:r>
            <a:endParaRPr b="0" lang="en-US" sz="35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372280" cy="53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3e3ff"/>
                </a:solidFill>
                <a:latin typeface="Arial"/>
              </a:rPr>
              <a:t>Source 3: Germany: Earthquake Shakes the Rhineland </a:t>
            </a:r>
            <a:endParaRPr b="0" lang="en-US" sz="3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ptember 8, 20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unusually strong earthquake occurred in W. Germ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as rat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 Richter Sca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arthquake was felt withi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k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as the strongest earthquake reported this autum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more tha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5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mergency calls re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igure 3: Earthquake in Rhinela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5" descr="Photo: DPA"/>
          <p:cNvPicPr/>
          <p:nvPr/>
        </p:nvPicPr>
        <p:blipFill>
          <a:blip r:embed="rId1"/>
          <a:stretch/>
        </p:blipFill>
        <p:spPr>
          <a:xfrm>
            <a:off x="838080" y="1600200"/>
            <a:ext cx="7315200" cy="45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magnitude of the latest earthquake in German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times did the earthquake occur this ye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7:54:00Z</dcterms:created>
  <dc:creator>SCSadmin</dc:creator>
  <dc:description/>
  <dc:language>en-US</dc:language>
  <cp:lastModifiedBy>Rebecca</cp:lastModifiedBy>
  <dcterms:modified xsi:type="dcterms:W3CDTF">2012-03-20T23:18:01Z</dcterms:modified>
  <cp:revision>19</cp:revision>
  <dc:subject/>
  <dc:title>Environmental Issues in German Speaking Countries</dc:title>
</cp:coreProperties>
</file>